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2CED-3F58-4D2E-BA4D-04F2CF8B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009-F550-4DE1-83CF-BD09E271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E11-A19A-42E3-B377-7E6EFEAB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700-623C-4995-B548-42314E0D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F4C-BD9C-4BF0-B653-1217F4DE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235-FAC8-4A7F-9F2E-D956CAEC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F09-2A4A-4132-A2C7-977B102A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973-BA4C-46CA-AA21-678DDF40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59A-FBDC-4E82-9ACC-51F54A43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1E9-6DEF-4BC0-8EFE-FBFC1F7B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5189-0CB0-4AAF-B79E-4CC49261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FB3-D4AD-4679-9200-DCAF674A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3B08-ABB1-4F68-BF4D-7D30A8C8E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ment is always Tougher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Quynh Vu and Ethan 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port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most important are Kaliningrad and St. Petersbur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liningrad is Russia’s only Baltic port that remains free from ice year 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lway Transport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lway transport in Russia mostly under the control state-run Russian monopo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ailroads are in western/southern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-Siberian railroad is in southern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3505320"/>
            <a:ext cx="5638680" cy="313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21:00Z</dcterms:created>
  <dc:creator> </dc:creator>
  <dc:description/>
  <dc:language>en-US</dc:language>
  <cp:lastModifiedBy> </cp:lastModifiedBy>
  <dcterms:modified xsi:type="dcterms:W3CDTF">2010-12-14T14:30:57Z</dcterms:modified>
  <cp:revision>3</cp:revision>
  <dc:subject/>
  <dc:title>Seaports in Russia</dc:title>
</cp:coreProperties>
</file>